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349-7F1E-430E-B784-6580B02A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E05-D4B4-43EE-8E3D-42541FA9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129-E909-49E7-BC2A-30F3D3FA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0B5-6E24-4C49-A52B-AD2CCA1F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4A2-633D-401D-83B9-1532321C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F3C-74E0-4F6E-A1B8-68E27247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927-C2FE-4DD2-9837-1F8F6B43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D59-D894-40AF-A6F7-8AE608EC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856-2F1A-437B-A766-10F1DE98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EE5-4904-4F3D-97C5-A38CBBE9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FB6-4CB2-4FC8-B00C-960FBF4E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120-EAA9-44C8-A27C-1C33D8BB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CE99-740B-4E31-A172-E509F2744FF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6 Nech nám srdcia plní rad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nám srdcia plní rad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osti a lásky c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ec v nebi zve nás deťm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y smieme jeho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tný tón našej p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vložil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iť nás chce smútku t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je už sláv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 nás ako Otec ver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die, chráni, žehn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ú bolesť láskou mier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eď občas trest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tný tón našej p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vložil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iť nás chce smútku t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je už sláv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rázcestí keď nám vol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eba správnu z rôznych cie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smieme vždy sa spoji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domovu on chce nás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tný tón našej p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vložil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iť nás chce smútku t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je už slávy cie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33:07Z</dcterms:modified>
  <cp:revision>77</cp:revision>
  <dc:subject/>
  <dc:title>Je veľký náš Pán, on slávy je Kráľ Nech do všetkých strán  spev vrúcnych znie chvál.</dc:title>
</cp:coreProperties>
</file>